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421F06-07D1-4135-9F21-AE0E6851BC8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3193F7-8885-4C45-8E5E-CDAF2624E954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A10A8E-5BE5-4CA8-9C68-2697250AE6E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9E6CFA-A512-4EDF-9A9F-6C346FB0D3A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D9DFC7-28FD-4AC1-A74A-3E533E97D808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9E492B-D2B8-43A8-A424-1EEE3259A0C8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03F2D5-924A-4B1C-9834-2548F3A7FF55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379615-E162-4B3E-8A8B-F34D9DAFEB51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691BC8-5B03-4CF9-A700-EF91C87C0677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o si potrebbe implementare facendo sorting, invece che accedendo a tutti i bucket in modo random. Ha si il termine logaritmico, ma è piccolissi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CC79AB-F0DC-4B3F-B9A7-6F1C2BCFDE47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73B69F-BBB0-4442-AB3E-C34C980830A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757A30-39ED-4566-AE28-D32460A9DA0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19EDB7-075F-4F28-B725-63A334B56B3C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0D7-90B1-4EC0-A5D6-06404248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C1B-476B-48FD-B898-6754FB7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582-7DAB-45D6-8B3D-7917E3F2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ADE-99B0-48F9-8599-9459656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4BFB-CE04-4653-9F6C-8B4189C3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33A5-D836-4ECF-A1FA-44FDABA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8056-3F98-4932-8B00-E009D49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39E9-BFC5-4A91-9976-0F3AAC6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999-9DC2-4CFD-BB2A-B8AE6ABC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1A71-A00A-47E2-834B-8B504312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7E86-50C3-4800-8197-C76946D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1FC-932E-4B67-B5DD-531E7B9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9BF-176F-46D1-9D85-52A220E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B8EB-79F7-455F-87D7-A274C87A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DA1-4054-4EA3-A355-2E5D314B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D4D9-DE66-4745-9E5F-422DB1BD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C80C-7832-401F-8F6A-0615E761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267-CD5B-4918-8D8A-5049D76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453-8356-474F-BF9E-C6C57607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7BD-50C7-4B40-B4CB-E029FEA9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D16-76AA-4632-A344-1785D76A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B89-BB44-4AB9-A3CB-E202CBE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201-96FF-4062-A854-EE978A8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9FC-AC5D-42BB-ABC1-15A96E1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004-80AF-4910-A69B-4B413F2F6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4AA-9C1A-41BA-9889-95B0C55D4AC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ocality-sensitive hash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its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University of Pis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88000" y="5877000"/>
            <a:ext cx="4235400" cy="90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easuring the error probabi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2749680"/>
            <a:ext cx="813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g() consists of L independent hash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[g(p) matches g(q)] =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1 - Pr[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p)</a:t>
            </a:r>
            <a:r>
              <a:rPr b="1" lang="en-US" sz="2400" spc="-1" strike="noStrike">
                <a:solidFill>
                  <a:srgbClr val="ff33cc"/>
                </a:solidFill>
                <a:latin typeface="Lucida Sans"/>
              </a:rPr>
              <a:t> ≠ 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q), </a:t>
            </a:r>
            <a:r>
              <a:rPr b="0" i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33cc"/>
                </a:solidFill>
                <a:latin typeface="Lucida Sans"/>
              </a:rPr>
              <a:t>i=1, …, L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1547640" y="3903840"/>
                <a:ext cx="635652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7"/>
              <p:cNvSpPr txBox="1"/>
              <p:nvPr/>
            </p:nvSpPr>
            <p:spPr>
              <a:xfrm>
                <a:off x="1595520" y="1673280"/>
                <a:ext cx="5952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9" name="Gruppo 4"/>
          <p:cNvGrpSpPr/>
          <p:nvPr/>
        </p:nvGrpSpPr>
        <p:grpSpPr>
          <a:xfrm>
            <a:off x="6146640" y="4941720"/>
            <a:ext cx="2739600" cy="1800360"/>
            <a:chOff x="6146640" y="4941720"/>
            <a:chExt cx="2739600" cy="1800360"/>
          </a:xfrm>
        </p:grpSpPr>
        <p:pic>
          <p:nvPicPr>
            <p:cNvPr id="230" name="Picture 5" descr="http://www.pleacher.com/mp/mgifs/gifs4/s.jpg"/>
            <p:cNvPicPr/>
            <p:nvPr/>
          </p:nvPicPr>
          <p:blipFill>
            <a:blip r:embed="rId1"/>
            <a:srcRect l="5387" t="9290" r="5964" b="16060"/>
            <a:stretch/>
          </p:blipFill>
          <p:spPr>
            <a:xfrm>
              <a:off x="6170760" y="4941720"/>
              <a:ext cx="2592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CasellaDiTesto 3"/>
            <p:cNvSpPr/>
            <p:nvPr/>
          </p:nvSpPr>
          <p:spPr>
            <a:xfrm>
              <a:off x="8583480" y="62704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CasellaDiTesto 36"/>
            <p:cNvSpPr/>
            <p:nvPr/>
          </p:nvSpPr>
          <p:spPr>
            <a:xfrm>
              <a:off x="6146640" y="49417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P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3" name="Gruppo 7"/>
          <p:cNvGrpSpPr/>
          <p:nvPr/>
        </p:nvGrpSpPr>
        <p:grpSpPr>
          <a:xfrm>
            <a:off x="7165800" y="5781600"/>
            <a:ext cx="1023840" cy="821520"/>
            <a:chOff x="7165800" y="5781600"/>
            <a:chExt cx="1023840" cy="821520"/>
          </a:xfrm>
        </p:grpSpPr>
        <p:sp>
          <p:nvSpPr>
            <p:cNvPr id="234" name="CasellaDiTesto 38"/>
            <p:cNvSpPr/>
            <p:nvPr/>
          </p:nvSpPr>
          <p:spPr>
            <a:xfrm>
              <a:off x="7167600" y="62960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(1/L)^(1/k)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Connettore 1 6"/>
            <p:cNvSpPr/>
            <p:nvPr/>
          </p:nvSpPr>
          <p:spPr>
            <a:xfrm>
              <a:off x="7165800" y="5781600"/>
              <a:ext cx="0" cy="76032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: Groups of similar it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502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Buckets provide the candidate similar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«Merge» similar sets over L rounds if they share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uppo 4"/>
          <p:cNvGrpSpPr/>
          <p:nvPr/>
        </p:nvGrpSpPr>
        <p:grpSpPr>
          <a:xfrm>
            <a:off x="900000" y="2637000"/>
            <a:ext cx="6388200" cy="4076640"/>
            <a:chOff x="900000" y="2637000"/>
            <a:chExt cx="6388200" cy="4076640"/>
          </a:xfrm>
        </p:grpSpPr>
        <p:sp>
          <p:nvSpPr>
            <p:cNvPr id="239" name="Oval 3"/>
            <p:cNvSpPr/>
            <p:nvPr/>
          </p:nvSpPr>
          <p:spPr>
            <a:xfrm>
              <a:off x="3719520" y="2637000"/>
              <a:ext cx="1592640" cy="12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4329000" y="4770360"/>
              <a:ext cx="742320" cy="1929960"/>
              <a:chOff x="4329000" y="4770360"/>
              <a:chExt cx="742320" cy="192996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32900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43290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43290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Line 8"/>
              <p:cNvSpPr/>
              <p:nvPr/>
            </p:nvSpPr>
            <p:spPr>
              <a:xfrm>
                <a:off x="43290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>
                <a:off x="43290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43290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Line 11"/>
              <p:cNvSpPr/>
              <p:nvPr/>
            </p:nvSpPr>
            <p:spPr>
              <a:xfrm>
                <a:off x="43290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432900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9" name="Group 13"/>
            <p:cNvGrpSpPr/>
            <p:nvPr/>
          </p:nvGrpSpPr>
          <p:grpSpPr>
            <a:xfrm>
              <a:off x="6333840" y="4770360"/>
              <a:ext cx="742320" cy="1929960"/>
              <a:chOff x="6333840" y="4770360"/>
              <a:chExt cx="742320" cy="1929960"/>
            </a:xfrm>
          </p:grpSpPr>
          <p:sp>
            <p:nvSpPr>
              <p:cNvPr id="250" name="Rectangle 14"/>
              <p:cNvSpPr/>
              <p:nvPr/>
            </p:nvSpPr>
            <p:spPr>
              <a:xfrm>
                <a:off x="633384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15"/>
              <p:cNvSpPr/>
              <p:nvPr/>
            </p:nvSpPr>
            <p:spPr>
              <a:xfrm>
                <a:off x="633384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16"/>
              <p:cNvSpPr/>
              <p:nvPr/>
            </p:nvSpPr>
            <p:spPr>
              <a:xfrm>
                <a:off x="633384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Line 17"/>
              <p:cNvSpPr/>
              <p:nvPr/>
            </p:nvSpPr>
            <p:spPr>
              <a:xfrm>
                <a:off x="633384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Line 18"/>
              <p:cNvSpPr/>
              <p:nvPr/>
            </p:nvSpPr>
            <p:spPr>
              <a:xfrm>
                <a:off x="633384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633384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20"/>
              <p:cNvSpPr/>
              <p:nvPr/>
            </p:nvSpPr>
            <p:spPr>
              <a:xfrm>
                <a:off x="633384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21"/>
              <p:cNvSpPr/>
              <p:nvPr/>
            </p:nvSpPr>
            <p:spPr>
              <a:xfrm>
                <a:off x="633384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8" name="Group 22"/>
            <p:cNvGrpSpPr/>
            <p:nvPr/>
          </p:nvGrpSpPr>
          <p:grpSpPr>
            <a:xfrm>
              <a:off x="1585800" y="4783680"/>
              <a:ext cx="742320" cy="1929960"/>
              <a:chOff x="1585800" y="4783680"/>
              <a:chExt cx="742320" cy="1929960"/>
            </a:xfrm>
          </p:grpSpPr>
          <p:sp>
            <p:nvSpPr>
              <p:cNvPr id="259" name="Rectangle 23"/>
              <p:cNvSpPr/>
              <p:nvPr/>
            </p:nvSpPr>
            <p:spPr>
              <a:xfrm>
                <a:off x="1585800" y="4783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Line 24"/>
              <p:cNvSpPr/>
              <p:nvPr/>
            </p:nvSpPr>
            <p:spPr>
              <a:xfrm>
                <a:off x="15858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Line 25"/>
              <p:cNvSpPr/>
              <p:nvPr/>
            </p:nvSpPr>
            <p:spPr>
              <a:xfrm>
                <a:off x="15858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Line 26"/>
              <p:cNvSpPr/>
              <p:nvPr/>
            </p:nvSpPr>
            <p:spPr>
              <a:xfrm>
                <a:off x="15858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Line 27"/>
              <p:cNvSpPr/>
              <p:nvPr/>
            </p:nvSpPr>
            <p:spPr>
              <a:xfrm>
                <a:off x="15858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Line 28"/>
              <p:cNvSpPr/>
              <p:nvPr/>
            </p:nvSpPr>
            <p:spPr>
              <a:xfrm>
                <a:off x="15858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Line 29"/>
              <p:cNvSpPr/>
              <p:nvPr/>
            </p:nvSpPr>
            <p:spPr>
              <a:xfrm>
                <a:off x="15858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Line 30"/>
              <p:cNvSpPr/>
              <p:nvPr/>
            </p:nvSpPr>
            <p:spPr>
              <a:xfrm>
                <a:off x="1585800" y="65070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7" name="Freeform 31"/>
            <p:cNvSpPr/>
            <p:nvPr/>
          </p:nvSpPr>
          <p:spPr>
            <a:xfrm>
              <a:off x="2047680" y="3504600"/>
              <a:ext cx="2128680" cy="2180160"/>
            </a:xfrm>
            <a:custGeom>
              <a:avLst/>
              <a:gdLst>
                <a:gd name="textAreaLeft" fmla="*/ 0 w 2128680"/>
                <a:gd name="textAreaRight" fmla="*/ 2129040 w 2128680"/>
                <a:gd name="textAreaTop" fmla="*/ 0 h 2180160"/>
                <a:gd name="textAreaBottom" fmla="*/ 2180520 h 218016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440532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4557600" y="32464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4709880" y="37036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Oval 35"/>
            <p:cNvSpPr/>
            <p:nvPr/>
          </p:nvSpPr>
          <p:spPr>
            <a:xfrm>
              <a:off x="4709880" y="28652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100400" y="30178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01480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Oval 39"/>
            <p:cNvSpPr/>
            <p:nvPr/>
          </p:nvSpPr>
          <p:spPr>
            <a:xfrm>
              <a:off x="4024080" y="34750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4100400" y="355104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4158720" y="3501000"/>
              <a:ext cx="2316240" cy="269028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2690280"/>
                <a:gd name="textAreaBottom" fmla="*/ 2690640 h 269028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250020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417672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4"/>
            <p:cNvSpPr/>
            <p:nvPr/>
          </p:nvSpPr>
          <p:spPr>
            <a:xfrm>
              <a:off x="608184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5"/>
            <p:cNvSpPr/>
            <p:nvPr/>
          </p:nvSpPr>
          <p:spPr>
            <a:xfrm>
              <a:off x="5789160" y="55191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6"/>
            <p:cNvSpPr/>
            <p:nvPr/>
          </p:nvSpPr>
          <p:spPr>
            <a:xfrm>
              <a:off x="3795480" y="545616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7"/>
            <p:cNvSpPr/>
            <p:nvPr/>
          </p:nvSpPr>
          <p:spPr>
            <a:xfrm>
              <a:off x="900000" y="54561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8"/>
            <p:cNvSpPr/>
            <p:nvPr/>
          </p:nvSpPr>
          <p:spPr>
            <a:xfrm>
              <a:off x="3948120" y="30178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4" name="Fumetto 1 50"/>
          <p:cNvSpPr/>
          <p:nvPr/>
        </p:nvSpPr>
        <p:spPr>
          <a:xfrm>
            <a:off x="6593040" y="2801880"/>
            <a:ext cx="2338200" cy="1177920"/>
          </a:xfrm>
          <a:prstGeom prst="wedgeRectCallout">
            <a:avLst>
              <a:gd name="adj1" fmla="val -76402"/>
              <a:gd name="adj2" fmla="val 217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f p ≈ q, then the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all in at leas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ne same buck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Freeform 31"/>
          <p:cNvSpPr/>
          <p:nvPr/>
        </p:nvSpPr>
        <p:spPr>
          <a:xfrm>
            <a:off x="2216160" y="3111480"/>
            <a:ext cx="2854440" cy="2639880"/>
          </a:xfrm>
          <a:custGeom>
            <a:avLst/>
            <a:gdLst>
              <a:gd name="textAreaLeft" fmla="*/ 0 w 2854440"/>
              <a:gd name="textAreaRight" fmla="*/ 2854800 w 2854440"/>
              <a:gd name="textAreaTop" fmla="*/ 0 h 2639880"/>
              <a:gd name="textAreaBottom" fmla="*/ 2639880 h 2639880"/>
            </a:gdLst>
            <a:ahLst/>
            <a:rect l="textAreaLeft" t="textAreaTop" r="textAreaRight" b="textAreaBottom"/>
            <a:pathLst>
              <a:path w="996" h="1665">
                <a:moveTo>
                  <a:pt x="996" y="3"/>
                </a:moveTo>
                <a:lnTo>
                  <a:pt x="540" y="0"/>
                </a:lnTo>
                <a:lnTo>
                  <a:pt x="540" y="1665"/>
                </a:lnTo>
                <a:lnTo>
                  <a:pt x="0" y="166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Freeform 40"/>
          <p:cNvSpPr/>
          <p:nvPr/>
        </p:nvSpPr>
        <p:spPr>
          <a:xfrm flipH="1">
            <a:off x="4751280" y="3083040"/>
            <a:ext cx="347760" cy="308268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369" h="1068">
                <a:moveTo>
                  <a:pt x="0" y="0"/>
                </a:moveTo>
                <a:lnTo>
                  <a:pt x="0" y="1068"/>
                </a:lnTo>
                <a:lnTo>
                  <a:pt x="369" y="106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5003640" y="3111480"/>
            <a:ext cx="1852920" cy="2611440"/>
          </a:xfrm>
          <a:custGeom>
            <a:avLst/>
            <a:gdLst>
              <a:gd name="textAreaLeft" fmla="*/ 0 w 1852920"/>
              <a:gd name="textAreaRight" fmla="*/ 1853280 w 185292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917" h="2097">
                <a:moveTo>
                  <a:pt x="0" y="3"/>
                </a:moveTo>
                <a:lnTo>
                  <a:pt x="1206" y="0"/>
                </a:lnTo>
                <a:lnTo>
                  <a:pt x="1206" y="2097"/>
                </a:lnTo>
                <a:lnTo>
                  <a:pt x="1917" y="2097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4967280" y="2535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ttangolo arrotondato 54"/>
          <p:cNvSpPr/>
          <p:nvPr/>
        </p:nvSpPr>
        <p:spPr>
          <a:xfrm>
            <a:off x="131760" y="2997360"/>
            <a:ext cx="2711520" cy="993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No Tables 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1"/>
          <p:cNvSpPr/>
          <p:nvPr/>
        </p:nvSpPr>
        <p:spPr>
          <a:xfrm>
            <a:off x="1616040" y="54338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56"/>
          <p:cNvSpPr/>
          <p:nvPr/>
        </p:nvSpPr>
        <p:spPr>
          <a:xfrm>
            <a:off x="4326120" y="595008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 of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on-line quer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0760" y="1827000"/>
            <a:ext cx="8502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Given a query w, find the similar indexed vector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  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check the vectors in the buckets </a:t>
            </a:r>
            <a:r>
              <a:rPr b="0" i="1" lang="en-US" sz="2800" spc="-1" strike="noStrike">
                <a:solidFill>
                  <a:srgbClr val="007254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7254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7254"/>
                </a:solidFill>
                <a:latin typeface="Times New Roman"/>
              </a:rPr>
              <a:t>(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 </a:t>
            </a:r>
            <a:r>
              <a:rPr b="0" lang="it-IT" sz="18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for all </a:t>
            </a:r>
            <a:r>
              <a:rPr b="0" i="1" lang="it-IT" sz="2000" spc="-1" strike="noStrike">
                <a:solidFill>
                  <a:srgbClr val="007254"/>
                </a:solidFill>
                <a:latin typeface="Lucida Sans"/>
                <a:ea typeface="ＭＳ Ｐゴシック"/>
              </a:rPr>
              <a:t>j=1,…,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4" name="Gruppo 4"/>
          <p:cNvGrpSpPr/>
          <p:nvPr/>
        </p:nvGrpSpPr>
        <p:grpSpPr>
          <a:xfrm>
            <a:off x="1063800" y="2986200"/>
            <a:ext cx="6176880" cy="3832920"/>
            <a:chOff x="1063800" y="2986200"/>
            <a:chExt cx="6176880" cy="3832920"/>
          </a:xfrm>
        </p:grpSpPr>
        <p:grpSp>
          <p:nvGrpSpPr>
            <p:cNvPr id="295" name="Group 4"/>
            <p:cNvGrpSpPr/>
            <p:nvPr/>
          </p:nvGrpSpPr>
          <p:grpSpPr>
            <a:xfrm>
              <a:off x="4493160" y="4738680"/>
              <a:ext cx="742320" cy="1929960"/>
              <a:chOff x="4493160" y="4738680"/>
              <a:chExt cx="742320" cy="1929960"/>
            </a:xfrm>
          </p:grpSpPr>
          <p:sp>
            <p:nvSpPr>
              <p:cNvPr id="296" name="Rectangle 5"/>
              <p:cNvSpPr/>
              <p:nvPr/>
            </p:nvSpPr>
            <p:spPr>
              <a:xfrm>
                <a:off x="44931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6"/>
              <p:cNvSpPr/>
              <p:nvPr/>
            </p:nvSpPr>
            <p:spPr>
              <a:xfrm>
                <a:off x="44931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7"/>
              <p:cNvSpPr/>
              <p:nvPr/>
            </p:nvSpPr>
            <p:spPr>
              <a:xfrm>
                <a:off x="44931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44931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9"/>
              <p:cNvSpPr/>
              <p:nvPr/>
            </p:nvSpPr>
            <p:spPr>
              <a:xfrm>
                <a:off x="44931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0"/>
              <p:cNvSpPr/>
              <p:nvPr/>
            </p:nvSpPr>
            <p:spPr>
              <a:xfrm>
                <a:off x="44931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1"/>
              <p:cNvSpPr/>
              <p:nvPr/>
            </p:nvSpPr>
            <p:spPr>
              <a:xfrm>
                <a:off x="44931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2"/>
              <p:cNvSpPr/>
              <p:nvPr/>
            </p:nvSpPr>
            <p:spPr>
              <a:xfrm>
                <a:off x="44931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4" name="Group 13"/>
            <p:cNvGrpSpPr/>
            <p:nvPr/>
          </p:nvGrpSpPr>
          <p:grpSpPr>
            <a:xfrm>
              <a:off x="6498360" y="4738680"/>
              <a:ext cx="742320" cy="1929960"/>
              <a:chOff x="6498360" y="4738680"/>
              <a:chExt cx="742320" cy="1929960"/>
            </a:xfrm>
          </p:grpSpPr>
          <p:sp>
            <p:nvSpPr>
              <p:cNvPr id="305" name="Rectangle 14"/>
              <p:cNvSpPr/>
              <p:nvPr/>
            </p:nvSpPr>
            <p:spPr>
              <a:xfrm>
                <a:off x="64983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15"/>
              <p:cNvSpPr/>
              <p:nvPr/>
            </p:nvSpPr>
            <p:spPr>
              <a:xfrm>
                <a:off x="64983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16"/>
              <p:cNvSpPr/>
              <p:nvPr/>
            </p:nvSpPr>
            <p:spPr>
              <a:xfrm>
                <a:off x="64983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64983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18"/>
              <p:cNvSpPr/>
              <p:nvPr/>
            </p:nvSpPr>
            <p:spPr>
              <a:xfrm>
                <a:off x="64983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64983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64983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21"/>
              <p:cNvSpPr/>
              <p:nvPr/>
            </p:nvSpPr>
            <p:spPr>
              <a:xfrm>
                <a:off x="64983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3" name="Group 22"/>
            <p:cNvGrpSpPr/>
            <p:nvPr/>
          </p:nvGrpSpPr>
          <p:grpSpPr>
            <a:xfrm>
              <a:off x="1749600" y="4738680"/>
              <a:ext cx="742320" cy="1929960"/>
              <a:chOff x="1749600" y="4738680"/>
              <a:chExt cx="742320" cy="192996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174960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174960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74960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74960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74960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74960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174960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>
                <a:off x="174960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2" name="Freeform 31"/>
            <p:cNvSpPr/>
            <p:nvPr/>
          </p:nvSpPr>
          <p:spPr>
            <a:xfrm>
              <a:off x="2334960" y="3514320"/>
              <a:ext cx="2005560" cy="2130840"/>
            </a:xfrm>
            <a:custGeom>
              <a:avLst/>
              <a:gdLst>
                <a:gd name="textAreaLeft" fmla="*/ 0 w 2005560"/>
                <a:gd name="textAreaRight" fmla="*/ 2005920 w 2005560"/>
                <a:gd name="textAreaTop" fmla="*/ 0 h 2130840"/>
                <a:gd name="textAreaBottom" fmla="*/ 2131200 h 213084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Oval 39"/>
            <p:cNvSpPr/>
            <p:nvPr/>
          </p:nvSpPr>
          <p:spPr>
            <a:xfrm>
              <a:off x="4188240" y="34430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Freeform 40"/>
            <p:cNvSpPr/>
            <p:nvPr/>
          </p:nvSpPr>
          <p:spPr>
            <a:xfrm>
              <a:off x="4264560" y="351936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Freeform 41"/>
            <p:cNvSpPr/>
            <p:nvPr/>
          </p:nvSpPr>
          <p:spPr>
            <a:xfrm>
              <a:off x="4264560" y="3514320"/>
              <a:ext cx="2374560" cy="283860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838600"/>
                <a:gd name="textAreaBottom" fmla="*/ 2838960 h 283860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42"/>
            <p:cNvSpPr/>
            <p:nvPr/>
          </p:nvSpPr>
          <p:spPr>
            <a:xfrm>
              <a:off x="2628000" y="558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43"/>
            <p:cNvSpPr/>
            <p:nvPr/>
          </p:nvSpPr>
          <p:spPr>
            <a:xfrm>
              <a:off x="3582000" y="483912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44"/>
            <p:cNvSpPr/>
            <p:nvPr/>
          </p:nvSpPr>
          <p:spPr>
            <a:xfrm>
              <a:off x="5742360" y="630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45"/>
            <p:cNvSpPr/>
            <p:nvPr/>
          </p:nvSpPr>
          <p:spPr>
            <a:xfrm>
              <a:off x="5953320" y="5487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Text Box 46"/>
            <p:cNvSpPr/>
            <p:nvPr/>
          </p:nvSpPr>
          <p:spPr>
            <a:xfrm>
              <a:off x="3959640" y="542448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47"/>
            <p:cNvSpPr/>
            <p:nvPr/>
          </p:nvSpPr>
          <p:spPr>
            <a:xfrm>
              <a:off x="1063800" y="54244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48"/>
            <p:cNvSpPr/>
            <p:nvPr/>
          </p:nvSpPr>
          <p:spPr>
            <a:xfrm>
              <a:off x="3959640" y="298620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3" name="CasellaDiTesto 42"/>
          <p:cNvSpPr/>
          <p:nvPr/>
        </p:nvSpPr>
        <p:spPr>
          <a:xfrm>
            <a:off x="1739160" y="5445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CasellaDiTesto 43"/>
          <p:cNvSpPr/>
          <p:nvPr/>
        </p:nvSpPr>
        <p:spPr>
          <a:xfrm>
            <a:off x="4595400" y="4705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z,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CasellaDiTesto 44"/>
          <p:cNvSpPr/>
          <p:nvPr/>
        </p:nvSpPr>
        <p:spPr>
          <a:xfrm>
            <a:off x="6656400" y="621828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r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LSH </a:t>
            </a:r>
            <a:r>
              <a:rPr b="0" i="1" lang="it-IT" sz="3200" spc="-1" strike="noStrike">
                <a:solidFill>
                  <a:srgbClr val="000000"/>
                </a:solidFill>
                <a:latin typeface="Lucida Sans"/>
              </a:rPr>
              <a:t>versus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8280" y="1844640"/>
            <a:ext cx="8866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finds correct clusters with high probability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compares vectors of d components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compares very short (sketch) vecto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cost per iteration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ypically K-means requires few iterations, each costs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d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sorts U short items, few scans]</a:t>
            </a:r>
            <a:r>
              <a:rPr b="0" lang="en-US" sz="20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principle have to iterate K=1,…, U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does not need to know the number of cluste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arrotondato 1"/>
          <p:cNvSpPr/>
          <p:nvPr/>
        </p:nvSpPr>
        <p:spPr>
          <a:xfrm>
            <a:off x="5435640" y="6093000"/>
            <a:ext cx="3600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You could apply K-mea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over LSH-sketch vectors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requent iss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599840"/>
            <a:ext cx="87962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users, described with a set of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atures, the goal is to find (the largest)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group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it-IT" sz="2600" spc="-1" strike="noStrike">
                <a:solidFill>
                  <a:srgbClr val="ff0000"/>
                </a:solidFill>
                <a:latin typeface="Lucida Sans"/>
              </a:rPr>
              <a:t>similar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Featur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sonal data, preferences, purchases, navigational behavior, search behavior, followers/ing,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A feature is typically a numerical value: binary or re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ounded Rectangle 3"/>
          <p:cNvSpPr/>
          <p:nvPr/>
        </p:nvSpPr>
        <p:spPr>
          <a:xfrm>
            <a:off x="1187280" y="5584680"/>
            <a:ext cx="6834240" cy="1157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7070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Users could also be Web pages (dedup)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products (recommendation), tweets/news/search results (visualiz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390920" y="5302080"/>
            <a:ext cx="4698000" cy="1513080"/>
            <a:chOff x="4390920" y="5302080"/>
            <a:chExt cx="4698000" cy="1513080"/>
          </a:xfrm>
        </p:grpSpPr>
        <p:pic>
          <p:nvPicPr>
            <p:cNvPr id="97" name="Picture 6" descr="http://bestclipartblog.com/clipart-pics/-people-clipart-3.png"/>
            <p:cNvPicPr/>
            <p:nvPr/>
          </p:nvPicPr>
          <p:blipFill>
            <a:blip r:embed="rId1"/>
            <a:stretch/>
          </p:blipFill>
          <p:spPr>
            <a:xfrm>
              <a:off x="5346720" y="6069240"/>
              <a:ext cx="432000" cy="74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4390920" y="59306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100011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99" name="Picture 8" descr="http://www.clker.com/cliparts/c/8/5/8/11949846661982808509people_juliane_krug_08a.svg.hi.png"/>
            <p:cNvPicPr/>
            <p:nvPr/>
          </p:nvPicPr>
          <p:blipFill>
            <a:blip r:embed="rId2"/>
            <a:stretch/>
          </p:blipFill>
          <p:spPr>
            <a:xfrm>
              <a:off x="8334360" y="6069240"/>
              <a:ext cx="43200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http://bestclipartblog.com/clipart-pics/person-clip-art-2.png"/>
            <p:cNvPicPr/>
            <p:nvPr/>
          </p:nvPicPr>
          <p:blipFill>
            <a:blip r:embed="rId3"/>
            <a:stretch/>
          </p:blipFill>
          <p:spPr>
            <a:xfrm>
              <a:off x="6611760" y="5367240"/>
              <a:ext cx="57096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9"/>
            <p:cNvSpPr/>
            <p:nvPr/>
          </p:nvSpPr>
          <p:spPr>
            <a:xfrm>
              <a:off x="7066800" y="530208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126280" y="57920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1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5778000" y="5883120"/>
            <a:ext cx="2556720" cy="712440"/>
            <a:chOff x="5778000" y="5883120"/>
            <a:chExt cx="2556720" cy="712440"/>
          </a:xfrm>
        </p:grpSpPr>
        <p:cxnSp>
          <p:nvCxnSpPr>
            <p:cNvPr id="104" name="Straight Arrow Connector 12"/>
            <p:cNvCxnSpPr/>
            <p:nvPr/>
          </p:nvCxnSpPr>
          <p:spPr>
            <a:xfrm>
              <a:off x="7183080" y="6053040"/>
              <a:ext cx="115164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5" name="Straight Arrow Connector 14"/>
            <p:cNvCxnSpPr/>
            <p:nvPr/>
          </p:nvCxnSpPr>
          <p:spPr>
            <a:xfrm>
              <a:off x="5778360" y="6576840"/>
              <a:ext cx="255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6" name="Straight Arrow Connector 17"/>
            <p:cNvCxnSpPr/>
            <p:nvPr/>
          </p:nvCxnSpPr>
          <p:spPr>
            <a:xfrm flipV="1">
              <a:off x="5778000" y="6052680"/>
              <a:ext cx="83412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7462440" y="591696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6846120" y="6288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5942160" y="588312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0" name="Content Placeholder 2"/>
          <p:cNvSpPr/>
          <p:nvPr/>
        </p:nvSpPr>
        <p:spPr>
          <a:xfrm>
            <a:off x="326880" y="4478400"/>
            <a:ext cx="84218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Similarity(u1,u2)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a function that, taken the set of features of users u1 and u2, returns a value in [0,1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2120" y="3729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0600" y="1730520"/>
            <a:ext cx="8123400" cy="9777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ry all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groups of user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, for each group, check the (average) similarity among all its us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0960" y="2822400"/>
            <a:ext cx="797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U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In the case of Facebook this is &gt; 2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1billion </a:t>
            </a:r>
            <a:r>
              <a:rPr b="0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(10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5840" y="4145040"/>
            <a:ext cx="885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If we limit groups to have a size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L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L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(Even if 1ns/sim and L=10, it is &gt; (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10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/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secs &gt; 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70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yea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43160" y="5961240"/>
            <a:ext cx="6594480" cy="72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6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No faster CPU/GPU, multi-cores,… could help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ular Callout 6"/>
          <p:cNvSpPr/>
          <p:nvPr/>
        </p:nvSpPr>
        <p:spPr>
          <a:xfrm>
            <a:off x="5808600" y="4633920"/>
            <a:ext cx="1575000" cy="561960"/>
          </a:xfrm>
          <a:prstGeom prst="wedgeRectCallout">
            <a:avLst>
              <a:gd name="adj1" fmla="val -54810"/>
              <a:gd name="adj2" fmla="val 71203"/>
            </a:avLst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2: introduce approxim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1630080"/>
            <a:ext cx="8105760" cy="9349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Interpret every user as a point in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-dim space, and then apply a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clustering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338120" y="452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566720" y="49798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1795320" y="4675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109520" y="53611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795320" y="5665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9197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843440" y="452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319560" y="459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233960" y="497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3700440" y="5284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10335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852720" y="4599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3852720" y="2644920"/>
            <a:ext cx="4457160" cy="2409840"/>
            <a:chOff x="3852720" y="2644920"/>
            <a:chExt cx="4457160" cy="2409840"/>
          </a:xfrm>
        </p:grpSpPr>
        <p:sp>
          <p:nvSpPr>
            <p:cNvPr id="132" name="Text Box 19"/>
            <p:cNvSpPr/>
            <p:nvPr/>
          </p:nvSpPr>
          <p:spPr>
            <a:xfrm>
              <a:off x="4840200" y="2644920"/>
              <a:ext cx="34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ick K=2 centroids at rando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233600" y="497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3852720" y="459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1033560" y="3102120"/>
            <a:ext cx="7000920" cy="2638440"/>
            <a:chOff x="1033560" y="3102120"/>
            <a:chExt cx="7000920" cy="2638440"/>
          </a:xfrm>
        </p:grpSpPr>
        <p:sp>
          <p:nvSpPr>
            <p:cNvPr id="136" name="Oval 23"/>
            <p:cNvSpPr/>
            <p:nvPr/>
          </p:nvSpPr>
          <p:spPr>
            <a:xfrm>
              <a:off x="3700080" y="5284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3319200" y="45990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03356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7"/>
            <p:cNvSpPr/>
            <p:nvPr/>
          </p:nvSpPr>
          <p:spPr>
            <a:xfrm>
              <a:off x="1338120" y="4522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1795320" y="46753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566720" y="49798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4843080" y="45226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795320" y="5665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1109520" y="53611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5950440" y="3102120"/>
              <a:ext cx="20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2023560" y="3559320"/>
            <a:ext cx="6608160" cy="1590840"/>
            <a:chOff x="2023560" y="3559320"/>
            <a:chExt cx="6608160" cy="1590840"/>
          </a:xfrm>
        </p:grpSpPr>
        <p:sp>
          <p:nvSpPr>
            <p:cNvPr id="148" name="Text Box 35"/>
            <p:cNvSpPr/>
            <p:nvPr/>
          </p:nvSpPr>
          <p:spPr>
            <a:xfrm>
              <a:off x="5898240" y="35593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1" name="Group 38"/>
          <p:cNvGrpSpPr/>
          <p:nvPr/>
        </p:nvGrpSpPr>
        <p:grpSpPr>
          <a:xfrm>
            <a:off x="3319560" y="4016520"/>
            <a:ext cx="4907880" cy="657000"/>
            <a:chOff x="3319560" y="4016520"/>
            <a:chExt cx="4907880" cy="657000"/>
          </a:xfrm>
        </p:grpSpPr>
        <p:sp>
          <p:nvSpPr>
            <p:cNvPr id="152" name="Oval 39"/>
            <p:cNvSpPr/>
            <p:nvPr/>
          </p:nvSpPr>
          <p:spPr>
            <a:xfrm>
              <a:off x="385272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331956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42"/>
            <p:cNvSpPr/>
            <p:nvPr/>
          </p:nvSpPr>
          <p:spPr>
            <a:xfrm>
              <a:off x="5832360" y="4016520"/>
              <a:ext cx="23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" name="Group 43"/>
          <p:cNvGrpSpPr/>
          <p:nvPr/>
        </p:nvGrpSpPr>
        <p:grpSpPr>
          <a:xfrm>
            <a:off x="1337760" y="4446720"/>
            <a:ext cx="7355880" cy="703440"/>
            <a:chOff x="1337760" y="4446720"/>
            <a:chExt cx="7355880" cy="703440"/>
          </a:xfrm>
        </p:grpSpPr>
        <p:sp>
          <p:nvSpPr>
            <p:cNvPr id="157" name="Text Box 44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Text Box 45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46"/>
            <p:cNvSpPr/>
            <p:nvPr/>
          </p:nvSpPr>
          <p:spPr>
            <a:xfrm>
              <a:off x="4004640" y="452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47"/>
            <p:cNvSpPr/>
            <p:nvPr/>
          </p:nvSpPr>
          <p:spPr>
            <a:xfrm>
              <a:off x="1337760" y="459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8"/>
            <p:cNvSpPr/>
            <p:nvPr/>
          </p:nvSpPr>
          <p:spPr>
            <a:xfrm>
              <a:off x="5960160" y="44737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2" name="Text Box 49"/>
          <p:cNvSpPr/>
          <p:nvPr/>
        </p:nvSpPr>
        <p:spPr>
          <a:xfrm>
            <a:off x="5927760" y="49309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-compute clus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900760" y="546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21920" y="3101760"/>
            <a:ext cx="5212080" cy="3237840"/>
            <a:chOff x="421920" y="3101760"/>
            <a:chExt cx="5212080" cy="3237840"/>
          </a:xfrm>
        </p:grpSpPr>
        <p:sp>
          <p:nvSpPr>
            <p:cNvPr id="165" name="Line 4"/>
            <p:cNvSpPr/>
            <p:nvPr/>
          </p:nvSpPr>
          <p:spPr>
            <a:xfrm flipH="1" flipV="1">
              <a:off x="421920" y="3101760"/>
              <a:ext cx="180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422280" y="6332040"/>
              <a:ext cx="5211720" cy="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7" name="Rectangle 56"/>
          <p:cNvSpPr/>
          <p:nvPr/>
        </p:nvSpPr>
        <p:spPr>
          <a:xfrm>
            <a:off x="1646280" y="2859120"/>
            <a:ext cx="266688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-me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55"/>
          <p:cNvSpPr/>
          <p:nvPr/>
        </p:nvSpPr>
        <p:spPr>
          <a:xfrm>
            <a:off x="33840" y="28321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57"/>
          <p:cNvSpPr/>
          <p:nvPr/>
        </p:nvSpPr>
        <p:spPr>
          <a:xfrm>
            <a:off x="5720400" y="6340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13000" y="6249960"/>
            <a:ext cx="7684920" cy="9651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Each iteration takes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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 K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U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computations of Sim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olution #2: few consider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639800"/>
            <a:ext cx="91440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st per iteration =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#iterations is typically smal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recently, some researchers showed how to introduce some guarantee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users/points cos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d) in time and space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notice that d may be bi/million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erate K=1, …, U it costs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3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&lt;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L   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[</a:t>
            </a:r>
            <a:r>
              <a:rPr b="1" lang="en-US" sz="2400" spc="-1" strike="noStrike">
                <a:solidFill>
                  <a:srgbClr val="3477b2"/>
                </a:solidFill>
                <a:latin typeface="Symbol"/>
                <a:ea typeface="Symbol"/>
              </a:rPr>
              <a:t>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years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1370160" y="5084640"/>
            <a:ext cx="627192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In T time, we can manage U = T</a:t>
            </a:r>
            <a:r>
              <a:rPr b="0" lang="it-IT" sz="2600" spc="-1" strike="noStrike" baseline="40000">
                <a:solidFill>
                  <a:srgbClr val="000000"/>
                </a:solidFill>
                <a:latin typeface="Tw Cen MT"/>
              </a:rPr>
              <a:t>1/3</a:t>
            </a: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 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1347840" y="5824440"/>
            <a:ext cx="6608880" cy="13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ing s-faster CPU ≈ using sT time an old CP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we can manage (s*T)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 = s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T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3280" y="33336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3: introduce randomiz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599840"/>
            <a:ext cx="8064720" cy="13921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Generate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fingerprint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for every user that is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much shorter 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han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 allows to transform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similarity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into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equality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 of fingerprint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3354480" y="5646600"/>
            <a:ext cx="5668920" cy="1133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324000" y="3357720"/>
            <a:ext cx="820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i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randomiz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correct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with high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guarantee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local access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o data, which is good for speed in disk/distributed set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warm-up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vectors 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,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ina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eat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amming dis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D(p,q)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#bits where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diff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hash functio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y choosing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andom coordin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h(p)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= projection of vect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on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I’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: P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ick I={1,4} (k=2), then h(p=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) =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proper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47360"/>
            <a:ext cx="770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r[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icking x s.t. p[x]=q[x]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]= (d - D(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))/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can vary the probability by changing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88000" y="1979640"/>
            <a:ext cx="2376360" cy="872280"/>
            <a:chOff x="6588000" y="1979640"/>
            <a:chExt cx="2376360" cy="872280"/>
          </a:xfrm>
        </p:grpSpPr>
        <p:grpSp>
          <p:nvGrpSpPr>
            <p:cNvPr id="184" name="Group 23"/>
            <p:cNvGrpSpPr/>
            <p:nvPr/>
          </p:nvGrpSpPr>
          <p:grpSpPr>
            <a:xfrm>
              <a:off x="6588000" y="1979640"/>
              <a:ext cx="2376360" cy="576360"/>
              <a:chOff x="6588000" y="1979640"/>
              <a:chExt cx="2376360" cy="57636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73056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709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745128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81164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>
                <a:off x="817200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>
                <a:off x="853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6588000" y="1979640"/>
                <a:ext cx="237636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2" name="Text Box 24"/>
            <p:cNvSpPr/>
            <p:nvPr/>
          </p:nvSpPr>
          <p:spPr>
            <a:xfrm>
              <a:off x="6740280" y="2514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7092720" y="25146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2   …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8535960" y="2514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116000" y="213372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6" name="Gruppo 5"/>
          <p:cNvGrpSpPr/>
          <p:nvPr/>
        </p:nvGrpSpPr>
        <p:grpSpPr>
          <a:xfrm>
            <a:off x="685800" y="4295880"/>
            <a:ext cx="5332320" cy="2958840"/>
            <a:chOff x="685800" y="4295880"/>
            <a:chExt cx="5332320" cy="2958840"/>
          </a:xfrm>
        </p:grpSpPr>
        <p:sp>
          <p:nvSpPr>
            <p:cNvPr id="197" name="Line 4"/>
            <p:cNvSpPr/>
            <p:nvPr/>
          </p:nvSpPr>
          <p:spPr>
            <a:xfrm flipV="1">
              <a:off x="114156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114156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V="1">
              <a:off x="403704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403704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228564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10480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189320" y="4448160"/>
              <a:ext cx="573120" cy="19177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67472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472284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8580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50496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1260360" y="4365000"/>
              <a:ext cx="1717200" cy="19440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944000"/>
                <a:gd name="textAreaBottom" fmla="*/ 1944360 h 194400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Connettore 1 4"/>
            <p:cNvSpPr/>
            <p:nvPr/>
          </p:nvSpPr>
          <p:spPr>
            <a:xfrm>
              <a:off x="4716720" y="636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0" name="Rettangolo arrotondato 36"/>
          <p:cNvSpPr/>
          <p:nvPr/>
        </p:nvSpPr>
        <p:spPr>
          <a:xfrm>
            <a:off x="5097600" y="5757840"/>
            <a:ext cx="4024080" cy="10558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Positi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at about False Negative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1" name="Gruppo 1"/>
          <p:cNvGrpSpPr/>
          <p:nvPr/>
        </p:nvGrpSpPr>
        <p:grpSpPr>
          <a:xfrm>
            <a:off x="6979680" y="2843280"/>
            <a:ext cx="1520280" cy="398880"/>
            <a:chOff x="6979680" y="2843280"/>
            <a:chExt cx="1520280" cy="398880"/>
          </a:xfrm>
        </p:grpSpPr>
        <p:sp>
          <p:nvSpPr>
            <p:cNvPr id="212" name="Text Box 32"/>
            <p:cNvSpPr/>
            <p:nvPr/>
          </p:nvSpPr>
          <p:spPr>
            <a:xfrm>
              <a:off x="6979680" y="284328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7235280" y="2853000"/>
              <a:ext cx="288720" cy="28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Text Box 32"/>
          <p:cNvSpPr/>
          <p:nvPr/>
        </p:nvSpPr>
        <p:spPr>
          <a:xfrm>
            <a:off x="7178040" y="155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 versus q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Gruppo 1"/>
          <p:cNvGrpSpPr/>
          <p:nvPr/>
        </p:nvGrpSpPr>
        <p:grpSpPr>
          <a:xfrm>
            <a:off x="7009560" y="3316320"/>
            <a:ext cx="1852560" cy="398880"/>
            <a:chOff x="7009560" y="3316320"/>
            <a:chExt cx="1852560" cy="398880"/>
          </a:xfrm>
        </p:grpSpPr>
        <p:sp>
          <p:nvSpPr>
            <p:cNvPr id="216" name="Text Box 32"/>
            <p:cNvSpPr/>
            <p:nvPr/>
          </p:nvSpPr>
          <p:spPr>
            <a:xfrm>
              <a:off x="7009560" y="3316320"/>
              <a:ext cx="18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 - 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246800" y="3326040"/>
              <a:ext cx="288720" cy="2894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8" name="Fumetto 1 39"/>
          <p:cNvSpPr/>
          <p:nvPr/>
        </p:nvSpPr>
        <p:spPr>
          <a:xfrm>
            <a:off x="6208560" y="3911760"/>
            <a:ext cx="2654280" cy="1584000"/>
          </a:xfrm>
          <a:prstGeom prst="wedgeRectCallout">
            <a:avLst>
              <a:gd name="adj1" fmla="val -76319"/>
              <a:gd name="adj2" fmla="val -11412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lang="it-IT" sz="2000" spc="-1" strike="noStrike" baseline="40000">
                <a:solidFill>
                  <a:srgbClr val="000000"/>
                </a:solidFill>
                <a:latin typeface="Lucida Conso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ere s is th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imilar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etween p an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iterate L ti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peat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 time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-projecti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set g(p) = &lt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…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eclare «p matches q» 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ne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p)=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ttangolo 2"/>
          <p:cNvSpPr/>
          <p:nvPr/>
        </p:nvSpPr>
        <p:spPr>
          <a:xfrm>
            <a:off x="250920" y="3355920"/>
            <a:ext cx="820872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We set k=2, L=3, let p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and q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1 = {3,4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2 = {1,3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3 = {1,5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33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ttangolo arrotondato 4"/>
          <p:cNvSpPr/>
          <p:nvPr/>
        </p:nvSpPr>
        <p:spPr>
          <a:xfrm>
            <a:off x="6588000" y="6165720"/>
            <a:ext cx="2521080" cy="69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 and q decla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 match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ttangolo arrotondato 5"/>
          <p:cNvSpPr/>
          <p:nvPr/>
        </p:nvSpPr>
        <p:spPr>
          <a:xfrm>
            <a:off x="5651640" y="189000"/>
            <a:ext cx="3359160" cy="105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Nega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ttangolo arrotondato 6"/>
          <p:cNvSpPr/>
          <p:nvPr/>
        </p:nvSpPr>
        <p:spPr>
          <a:xfrm>
            <a:off x="6588000" y="2232000"/>
            <a:ext cx="1368720" cy="476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ketch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09-26T08:48:48Z</dcterms:modified>
  <cp:revision>1321</cp:revision>
  <dc:subject/>
  <dc:title>Web Algorithmics</dc:title>
</cp:coreProperties>
</file>